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5E2-A715-44F7-8BBA-F1B1BF65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95-8C31-4721-B351-249E0DC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D38-05D9-4BB1-ABDC-F0664A5D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7AE-F52C-49B6-8D9B-9A6F324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046-6D48-4A7B-BCD5-A03BED3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D29-A1FE-4638-9230-E1E039F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1F7-F62F-405D-9C69-A3DCACA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454-A415-4EBF-9C1C-A2A22DB9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F87-995D-4A81-ACFA-D4714B8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9CE-F16B-474F-9380-22E479D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87F-1CA7-47FD-B8E4-F09487A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42A-99CE-4071-A007-8791EBA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B62B-4AA8-4167-AFC7-A97EAD17DB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to plant regains its turg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3440" y="380880"/>
            <a:ext cx="88282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or Short Distance routes for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55817"/>
          <a:stretch/>
        </p:blipFill>
        <p:spPr>
          <a:xfrm>
            <a:off x="0" y="533520"/>
            <a:ext cx="5145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or Short Distance routes for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1451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ransport of minerals and water in ro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tation: result of nocturnal building of root pressu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ushing of Xylem s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 sap ascent: the Transpiration-Cohesion-Tension mecha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8915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t of water in a tree - role of hydrogen bo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589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38680" y="685800"/>
            <a:ext cx="350532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ple tre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iration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00 liters/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5 cm/m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Stoma: Photosynthesis –Transpiration comprom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7200" y="838080"/>
            <a:ext cx="8956800" cy="4375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257800"/>
            <a:ext cx="7848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% water loss through Sto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iration to Photosynthesis rat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:1  (C3)  -   300:1  (C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ta on the underside of a lea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480" y="609480"/>
            <a:ext cx="8915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353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larger than Xylem delivery: loss of turg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3440" y="380880"/>
            <a:ext cx="88282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 of stomatal opening and 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20080" cy="4737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81480" y="5486400"/>
            <a:ext cx="2895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time – O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ghtime - Cl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 of stomatal opening and 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91720" cy="416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6440" y="5224320"/>
            <a:ext cx="68983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ght triggered accumulation K+ in guar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2 Depletion in leaf airsp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 clock in guard cell: Circadian Ry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loem sap transport: Bidirectional flow between sugar sources and si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36-16-PhloemSucroseLoad-L.gif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36-17-SieveTubePressFlow-L.gif"/>
          <p:cNvPicPr/>
          <p:nvPr/>
        </p:nvPicPr>
        <p:blipFill>
          <a:blip r:embed="rId1"/>
          <a:stretch/>
        </p:blipFill>
        <p:spPr>
          <a:xfrm>
            <a:off x="0" y="0"/>
            <a:ext cx="5396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10080" y="762120"/>
            <a:ext cx="37339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loem transpor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ource to s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ure Flow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osmoti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ure near sour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“pushes” wat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wards s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29000" y="2922480"/>
            <a:ext cx="5715000" cy="393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7840" y="380880"/>
            <a:ext cx="435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hids and Phloem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353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35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35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 transport in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48306" b="53399"/>
          <a:stretch/>
        </p:blipFill>
        <p:spPr>
          <a:xfrm>
            <a:off x="76320" y="1295280"/>
            <a:ext cx="464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 transport in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913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otential and water mo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3810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water pot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Pa megapasca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MPa = 10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07000" y="685800"/>
            <a:ext cx="4413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relations of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61628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960" y="1295280"/>
            <a:ext cx="428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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gt; Environment 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4733280" y="4800600"/>
            <a:ext cx="428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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lt; Environment 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 Sotka</cp:lastModifiedBy>
  <dcterms:modified xsi:type="dcterms:W3CDTF">2005-09-22T13:34:01Z</dcterms:modified>
  <cp:revision>147</cp:revision>
  <dc:subject/>
  <dc:title>PowerPoint Presentation</dc:title>
</cp:coreProperties>
</file>